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392-3C8B-4B19-9B97-2A311E8E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1B3-10A1-414E-A886-AFBB3ACD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F7D-685A-4CDE-AB7A-BC6AAC85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8E9-AC9E-49AC-93BD-5C1CC309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39EC-3CA3-4CD3-A350-4370110D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5DB-D82D-473A-8694-7455C910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F59D-29E6-4C93-A4BF-7AFB11AA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7AA3-F675-4B68-B21D-485B6780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F2C3-B142-472C-A95B-6307E1B8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BFE0-D710-4708-88AB-64D6FBE4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B659-65D9-4956-A812-1E3C5EAF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FBC-0C05-422F-A3C7-3A898605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C36C-3A6C-4144-A091-B6E9B03E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B91C-304D-4B27-95F9-BD894AA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F603-BCAD-4082-AA94-DC7935E1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1A90-AB1C-4FBC-B8C1-D24C19CE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DD8E-E9A6-4DEE-BCFF-AE5C4EAD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F16-07DC-4778-BDE3-C3A59941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A1F-893F-4B7D-9C9D-FD20B084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4D1-C33F-482F-80D0-F230DF67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047-0602-4E2A-A7B5-7E0B6677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D82-1E5D-4AFE-91A2-AACBB1B9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01C-4F29-4B2D-AAEE-F9A5E33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B4E-455E-4FDB-9A2A-0A0F3F75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FCB0-1EF6-4112-BFA6-28FF81DC9C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D2A1-BE8F-4213-BE01-49A5495435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P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 – Reading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lonial Slavery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93-10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2130120"/>
            <a:ext cx="66294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lav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ocial stra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  <a:ea typeface="Times New Roman"/>
              </a:rPr>
              <a:t>Slavery in North America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  <a:ea typeface="Times New Roman"/>
              </a:rPr>
              <a:t>Pages 101-112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720" y="2133360"/>
            <a:ext cx="67024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rth, South,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rican – America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s of Resistance and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lavery and Empire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113-12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slavery in the Glob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al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trad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utary Neg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vs.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opulation Growth and Colonial Society Pages 146-150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s of Colonia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ethnic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vs.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al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trad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lonial Religion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151-157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Deno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gationalists vs. Ang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Awak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-Way Cov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athan Edwards / George White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Exploration – Pages 60-64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46280" y="1600200"/>
            <a:ext cx="539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es / Impacts of European Expl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 or Vill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English America – Pages 64-70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for col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primogeniture and its imp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 Comp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, structure, lasting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town – The Real Story of Pocaho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 with the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Nicotine’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ony of 16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to Virgi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Indentured Servants &amp; Chesapeake Region Pages 64-70</a:t>
            </a:r>
            <a:br>
              <a:rPr sz="2800"/>
            </a:b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61960" y="2281320"/>
            <a:ext cx="64767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apeak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ntured Serv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righ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uritans and Pilgrims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Pages 70-76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09320" y="2281320"/>
            <a:ext cx="66294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, Calvinism, Puritans, Separatists, and Pilgr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, Who,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 Mayf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Bay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Winth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 England Life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70-76 (Part II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in New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, family structure, women’s rights and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role of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of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 with Ind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to Puritan faith an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ligious Dissent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ges 70-76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art II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680" y="2971800"/>
            <a:ext cx="64771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Anne Hutch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nomia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ger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rom other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roprietary Colonies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ages 76-83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320" y="2130120"/>
            <a:ext cx="66294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l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Carolina – economy &amp;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Carolina – why sepa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and end of New Neth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Jersey &amp; Dela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kers –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Conflict and War</a:t>
            </a:r>
            <a:br>
              <a:rPr sz="2800"/>
            </a:b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Pages 76-83</a:t>
            </a:r>
            <a:br>
              <a:rPr sz="2800"/>
            </a:b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Part II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09680" y="21337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of English expansi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on’s Rebe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gland Con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ion of New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of Sir Edmund And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of the Glorious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9:34:08Z</dcterms:created>
  <dc:creator>School District U46</dc:creator>
  <dc:description/>
  <dc:language>en-US</dc:language>
  <cp:lastModifiedBy>School District U46</cp:lastModifiedBy>
  <dcterms:modified xsi:type="dcterms:W3CDTF">2009-08-25T12:30:21Z</dcterms:modified>
  <cp:revision>4</cp:revision>
  <dc:subject/>
  <dc:title>APUSH</dc:title>
</cp:coreProperties>
</file>